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A25F-F241-4697-8CAE-CFF96CD13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B25B-E786-475C-BFC5-405C281C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2FFA-22A4-4C23-80AE-2AD3BE1C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6A21-C8F2-466B-A74E-51D5FE8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DEEB-C8A1-493F-8724-140A0C81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EBFB-BE58-4C1C-82F1-2F5F59B9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5EA9-E9AB-4CE4-9F2D-1C81B2F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E8D3-FC19-4982-93D4-28A8657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B0DC-C381-447F-9D14-955322D5C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3D86-0ABC-4D73-B6A1-7DE088DB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6C53-6206-49F7-AEBE-7D05CA8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FD94-1799-47FE-94A7-C2C133EA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2AFD-3B17-4A97-9300-18483C05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BDBC-C984-447A-8076-F9FC15F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5E3D-B75D-4E6C-88E0-C564AA5B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A77F-52C7-4BB4-9035-29A0645F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0B4C-C9C8-4209-BC8A-0EF5E56E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DBA5-D870-45D9-BF20-3F23FBD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71D7-4E33-499F-B6D6-6BC2DE0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FF6C-9B99-4A02-9330-41FEDE4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1F35-48F3-4E41-9336-AB47F7F71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E8ACD-A46C-4884-91D8-91FAA12B8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8FE21-307B-4F98-8B9E-84BECE6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EFECC-B81A-46BE-AEC8-12C2BAB3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5653-A6B6-42C7-A0A1-90CBAEC4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DD0D6-78CC-4C10-A121-2E75065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D1039-8052-41AF-8BA7-A142C477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1829B-D8DC-4F92-A952-4704F2F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D266E-CD16-458F-8393-CFA81EC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62A9A-E471-4D12-8D1D-DC7E15D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D531A-8618-4BBF-897D-AFFA2D5E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8C245-15B6-4942-9DF5-D37C27D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833B7-8DD3-460F-B381-364A6E9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29B90-1B07-4753-871F-38FBF1C0C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AE978-0996-4AD8-B7C6-30908ADEB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0E79-5FAD-4CBD-8BDE-42343E9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CB5AA8-1537-44CF-8E03-2664333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088CB-A8B0-4111-9639-5A4E3907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E8E57-5F47-4B2A-AEB7-3517FE9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67BE0-9A33-48FF-918C-D3C52D96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94E5E-9C02-4234-9424-37B20FE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85DE5D-C9B6-41F9-B180-32FB0B6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A9C4B-4C99-4E79-8E99-B96D012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5566FF-7248-4B57-8ACD-0706C27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6E42B-8F0E-4562-B427-44852813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BC3DE-75B7-4FA4-85B9-9C74FAE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8478-E8CC-4186-95C6-6016320BB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756EC-4D1C-47F6-855C-06DA71BD0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5B5A-FD7E-4D92-9DFD-E0DF56E5EC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0BAE9-BBDF-44B6-BE74-89A3E1C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E5B7-DA2A-4B8B-84D3-2BBE98F1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DF6A-CCC6-46AA-9CD0-8C88E89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362C-339D-46CA-9703-C6DAE618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7AF9-B84C-4A5F-8AC4-B916DFB1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2F69-AF40-4B0F-AC8D-9E01309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A71F-BC87-4C5C-B067-CABDFC8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75E5-EC92-41ED-9C27-7003676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B8742-285C-4BCB-92F3-4A6090F61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9EDD-AC13-4E53-AC0F-BB5FA5B6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F2E1-D5F8-456E-8C66-7281770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391D-A340-4323-8E9B-A57F14D22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29E22-C145-4777-9914-16FBC820F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D29A3-EE8E-498E-B077-57B7151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E27C9-7036-477E-9537-F3E418F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B2052-447E-4054-8CE0-F91546F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8F695-8A5B-4E4B-814D-F7A27FE2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79AC0-2611-49BB-8F2C-D2E39B1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C5D82-5E11-4B47-9CF3-EABDB89C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EC71C-3424-407A-AC21-60F7AD7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C4B41-70C6-44BA-A083-05AC4E4F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BD74B-F41B-40BD-81A8-2B4B513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7B1BD-F3EC-423D-B6E9-3FF9266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ACB85-1B0E-451B-B19A-382CF2E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376F8-8A84-4F16-8858-33DF62DB1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75813-E356-413C-A339-B725DBE13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DA175-1DE9-401D-9DD4-B5C25D7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EA9A35-E66F-411B-B581-648F167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28492-83A4-4A7B-9396-A318D626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E94BB-0A74-4991-881C-432378C2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5E4B-9459-443A-A94B-BD82CF5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244974-2019-4BD7-A867-72BB0AD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D936E-108A-4AD4-A782-2C3DFDF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7F205-9E5E-4327-AB47-48AC60A2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29A14-BC87-4D6C-B83D-FAA5287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B5F43-F1F8-4ED8-8FD8-9ED75C15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017688-5FC8-4EE1-B7A1-D83DBBE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E13121-17DC-4A84-A0C4-2B859BA37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8BAD-5C18-4D43-92E1-F085156CC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F971-EC9F-4212-BE7F-560C44BC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D42D-878D-4918-B69D-4C21F7B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153C-A646-4A7F-8544-3D785DD0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D42D-6F51-449C-B2CB-4C93A93D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75AF8-6C6E-4018-A547-DE8E476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62F5-AB6E-4B49-A311-D5B6440D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F10DF-6C97-4BD5-8536-F838A93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7679-DE42-4DFC-A56A-CE7F07D8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0B65-0539-4A9C-95FE-B11F1FE3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BDF6-8105-4A39-9703-3D9486B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0F58-CFEC-4E8A-B472-FCC4191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902E-CC7A-470A-953C-7D10E57768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2B857-0EBA-4E89-94F0-53EBB73D42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74424-38BA-4947-A353-C4AEEAC7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4FF80-E8BE-4B37-B0A9-C9CA707A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98645-73A4-450E-A169-784D933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9109FC-4C6F-4138-96C4-825E2913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F30989-6B01-44CB-A26C-B8C388BD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3CD7D-CE85-42A8-BEBF-F707B39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2B668C-4DDC-4980-864E-4A8C8AF9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39172F-A1C6-49CA-99B4-4AF77F9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8A401-75F6-4AFE-873D-A55D6381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A91BD-F395-46E3-B93A-F744BB5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8C978-0132-43C0-A491-7C6DE1E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ED82E-499D-4245-B82A-545140BF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218C2-E37F-4D6E-84C8-9F6804C98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3C331-80FE-47B4-9BF1-30EC47AAD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D327C-E54D-4D0D-A791-FDFF64C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D8248-1724-40CE-AA91-09779DC7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D98F9-423F-40B4-A75E-E68E6F1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5C73A-BE9C-44C6-9A74-16112BCD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D6A27-DC3B-4239-8E58-49044AAB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D3132-D318-4006-AB31-158FAA46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73099-D488-4608-BE2B-296E582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A1201-3F43-4833-813E-17D08C7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27324-126E-4B8E-BD9D-7E528A0B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2CFD5-77CF-4935-ABCC-47BD091E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CAE19-2F87-4CC1-9043-33A3AD7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A389D-D7AD-48F0-8F67-7B5B7EBA9D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82849-A399-47DC-A07A-EF211F0EF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2A77F-17B4-4250-B29A-FA300D9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696E6-7D14-479B-A3B0-3EF44312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5EA6-7C62-4965-9514-27DF61C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B80B8-1EFD-44CF-8611-ADCC706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13BA9-1FB2-455C-AA58-583B42A7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CB3B7-3FBE-4482-B040-C2DE3BF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8A7A3-8235-40AA-BDF0-B5BC715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0F325-720C-4953-80EC-67D99078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850E5-CEE8-48DB-A0CB-16C0A53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D8AD-0EFE-4DB6-AF6B-ED7C20BD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232F7-B2A0-4B45-9C30-FCD996F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E5EEE-F3FE-422A-A498-41EAA7B5D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85612-966B-4179-8D05-20260C823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6D27F-88D9-4A96-BF9F-E3CC769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82E947-A1A5-4400-8683-8BCF9FC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ECDF61-7E5D-4383-B83A-82C13AE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65B9E-BCAD-471A-A61C-86A88AAF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20AC-93B3-4F8B-B4E3-BA0FBB68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8EFF2-2C2B-43D5-8A8F-1A43BA0A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D81BDF-C306-4FDA-96F8-48FFA64F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6EEBD8-D4D0-4DBC-9727-810D93D9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AB26D-31BC-48A2-B096-A0431A00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2E6467-6E98-4D5B-952A-2CC24849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C479D-624D-410C-A17D-7C885B6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09CAC-1754-44FF-B186-9E0E56C1D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3741A4-29D7-41B2-8BB5-862560C0E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28170C-6629-4275-B2F6-0100E28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6C6FDF-0ACC-420E-85D7-6143D296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ABB93-7694-437C-8076-0E824EFD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9BB02F-60E4-4526-A78A-15E32D3B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D88D4A-ED04-44DD-97C4-D0923B95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BCD30-B699-42EF-B645-1F088B30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7CBF79-ABD8-4483-BFD5-E7C258D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3BB6A8-6718-4994-92F0-6BBEC401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869C9-844F-4E90-A6E1-954326A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0AFCBA-8029-4944-82D1-939F161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13DF9B-FF83-4717-B038-C679885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73F824-F4B9-4228-A23B-FDF21874C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ABB62-987B-4C5F-8126-9E27C9011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33538-269A-4A5D-B2B1-82FA679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A5C51-8FBC-45C7-B58B-D94C2B2A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4552-337D-4BE1-B1F7-EFF5864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36ED-5B1B-4067-8ADF-8CE56F7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23F10-6C53-4330-B5B3-EC7BD991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129B3-64E3-4C69-B858-58501465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94587-29F6-46E0-83F6-C02CA0B6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1BA0-3622-4C96-BFEF-F824EBC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5295E-4000-4251-887B-B1B44B7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A9AFB-7C47-478E-ABBB-4B5BC950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5837C-31E0-4814-BE62-0949B15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2D77-594C-4BDE-9922-8ADC0B100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C8F5-175F-45F0-A293-4329D86E6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A78E95-F4AC-45DC-A79A-5F3E3F4EAD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B239B0-8C58-4FB7-9B64-CC9FA9B0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3F8184-06E8-4984-ABCC-3957B35B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D0D4F8-9EFE-479D-9D3D-914683E9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1577BC-9EA2-4F4F-832A-54999D2C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29F797-A6AB-432B-987A-3B24366E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3F785E-7447-41BD-9DC7-C4279D43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92B66B-64DF-42C2-9A71-E61C814E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B85017-D2BB-474E-9AB6-02962E4A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C6CE8-D5D8-477D-B843-B63539B4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59CEBA-6A7F-4EBE-945A-36ED129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04DB06-88D0-43BD-B7E7-A9C7BCF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4D6F15-C664-4B27-AEB8-99E512D7D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1D8414-8162-4B18-B95C-CD4C9EBD6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5B84BB-C2DE-4CAE-AF9B-59E275F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B4EB57-A0A0-4635-A2FC-34259CEC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4FEE77-F1A9-4352-98C6-CFDC4789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8464C0-52BE-4EBA-8E66-E29EB12A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1815F6-0C05-4289-957A-AE153CE5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4262C8-3697-40D6-9E4A-E9406A5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155A3-68E7-4DC7-86EF-2B9D9734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B48DBE-D42D-4859-A1C8-F484BB7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31E3F7-2995-4E0F-886D-290A00E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E73B5A-A58E-438D-8CB2-FFAF617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5F4040-3893-4693-BAAE-D2C697E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A44755-BD68-47A6-A5FC-A9CCDA20FB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8E71B-7D50-4472-AD3F-05D78C5BF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D0AF3-6D0A-419A-AFED-A055DC9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56885-29A8-4BA2-9486-827C3A61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C48E5-DF39-47E1-9137-FD1B6EF1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7BBF8-F865-4A44-B83C-8D89CEF3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E0D50-D8E1-4D35-B9CF-C45FD06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74545-EFB4-452F-9A9D-9137A9FD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92D03-B0A3-4768-BC62-EE778373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6B44F-DF9E-4731-BFE8-F5B5140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F762F-883F-4487-BD08-70024F8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E34D3-4AB1-41AB-BC74-827833F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1D275-788F-4A1F-A020-996BA8B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F380A-F907-4E05-9BAB-B7A6B8A77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39F048-121C-47E2-B77F-9D8B0F5AF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DCE707-DA05-4E4C-ADA9-928CBD8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5F0849-05A4-4CDA-8567-8648003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50F3D-6C22-4F05-B217-E2F2E88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BE035F-9BF2-42E6-987D-578F8A5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1CEDB9-DDC3-4CBD-B7F7-73450432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64A505-211C-4666-8A96-EEC31361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F675C6-5FF1-4ADD-BBD1-243B93C9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5FBD0D-79DB-4E06-9CE7-3C201D9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25BCB0-5E61-4E0F-9AC5-4309A142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EFF100-1569-43CA-8E69-2C562052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065F97-34F4-45DD-880C-BA8C1BA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01D3AD-057D-427E-99F6-6BACDF124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51179B-80C5-4055-B13A-EE445E901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CAAF6-5EB7-4167-A1BA-744C197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D80E9E-7AC2-40A3-9296-7BB77F76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8CF5E0-6D70-4F89-8FA7-0C2588D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10F1CD-DE88-4553-A66D-329CDAF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BBF8DE-E912-49AE-8986-2430F96E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67970D-E133-44E4-8A0C-ADE12643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868291-2CFD-40E3-AE17-3E22D7CE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2348B0-2980-4501-AFB3-4C2A1B62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F0A504-A9B4-4030-A6F1-F1A0159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96E2E0-0F84-4DEE-8BE2-A8EBBA2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BACB16-EAF0-49CE-BED4-7A98F77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07535-B5EA-46C6-8551-3CA1A09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2EFA99-972A-4C1D-B345-C023ABDFE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F9DC3-1F4E-4ADA-BF15-31B727A26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8F071-7A06-4620-9F0C-FA8E53C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24F21-D3DE-4F04-8941-778134E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EA571-ADD5-4E2D-8B2D-5B9299D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8D911-08BB-4708-9BC6-50B9688F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F70FC-498E-49CD-97BB-3EB2733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5B0B2-50A5-40AD-9219-61030AE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77C22-234F-4D24-A8DF-68E9D774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9AB27-A3B8-47E0-B228-22DAA2F1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C2788-8281-4E34-B537-088C823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E24C5-9330-41EE-A131-15B32B9E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42F5F-B070-4A8C-AFC2-5DA0F83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2EB14-84D4-4043-B7B6-48D021C1E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894942-1CAA-40B8-9D51-64E4A5573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E19470-DFAA-408A-9F70-6E88851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922971-D87F-4A9F-8AF5-1F8209D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C2EB25-2774-4232-8067-3DAB9D0E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02F9DB-F7F0-4108-A9A2-9CBF6208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FC4B6F-C0B2-44FD-8497-212B48C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36AF44-B9DC-458E-9FA2-4DD21E0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F24AD-AADE-4AD3-B03D-DF4E5BC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DC7DEC-92D2-440D-B248-8DB17CC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2160FF-A2B1-4A85-9DA6-02080A89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045A66-9048-497C-99E5-5CCCC4A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6DABC9-41C4-4110-8203-06B5514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0A331F-38D2-4E74-8161-40287A7D2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407F1E-BEA6-47C3-959C-AE3556EDA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7F25A2-2668-40C2-B84F-854A45F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B7191D-1603-4868-93D9-2F26398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B4C069-EB99-4090-B5C1-1772CE5B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E048E7-6C95-4603-ADFD-FDA4A744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CA087-EEF7-4979-BD5B-FF9D1FB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B9EB30-CB4F-4024-BF2D-843CB137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790225-8924-4C47-82FC-3756F7F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B5FE36-4345-4DF1-9128-061ED64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E3E2E1-6B2D-42A2-BD75-1B9679B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FC15E5-B16F-457C-94EC-C72A7FB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DA93A5-680E-4023-90F3-A2B3F43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531D9C-A56D-4C52-85E0-9F9770348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61002-6A14-4BDC-8058-92F0DBC24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BA5D2-69C3-42F2-9141-BBEE0B8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261D6-F464-4E54-9AC8-8F4E247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D1029-E878-49A6-AE2D-E62809B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14B28-7C53-4B6B-B26D-06C65EF1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383A4-2755-4AC8-B54A-9AE9B15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F8205-EEFB-45B5-82F9-3B8A6A61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04DA9-20B1-4E9D-A3AF-A6DC946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3F048-D263-47E8-A0FE-0C7A429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589F2-AA59-4456-ACC4-6B5ADA2C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40B9C-CE7C-42CD-85C7-EB1E6087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9DFE0-B628-4C77-9FA8-D2D057C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55BF3-9F8F-4A19-8CD9-61FA493F1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B3625-86E3-4484-96EB-6ACF0478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F8E0D-8690-4F1D-84CD-AAB2CE6E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F37A7-1DD7-46E6-BDA7-465518F4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7824D-163D-4F97-8A66-B275E8B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872F0-EB67-4A11-AE7A-7C8248E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33F4F-EAEA-4039-ACB0-F8D053E0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116BC-4C5F-4008-BFC9-E2F57E5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0EF13-B3E7-40E5-91E9-299919C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BE8BF-A872-4B85-B471-5E5FBB0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F3968-BF70-434C-BDEB-35B659C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25F7B-B82A-4A79-81EC-FD70AE6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DD34C-007B-4F72-A6B0-784B7C87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B9997-542E-499D-A414-B8C9F0F6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5FA1F-99B1-4DD1-9D0E-A1A3F90F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6B0A9-E599-41BE-A3A4-883A870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ED4FE-055A-4822-BA5B-3F741E4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C64FB-8382-41B4-A8DE-D40DC20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5761D-8CA8-4A92-9310-BFB7D70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E8C15-CE33-460C-92E6-92D538D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FD2FC-ADC2-4FE3-9F1E-DA8C0AE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11266-DEAC-4393-B783-90E9BB6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0821B-50B6-4684-B050-474D516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9C6FC-6D28-4241-B965-BA21D39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F7134-BB94-4FC6-9AB5-BC42DCD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0ED07-72C8-486E-A23E-BB2E4B3A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EEEE5-5BB5-43AE-BC67-CE05442C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B5EA5-6A94-44AE-B18E-05383220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1F83C-2A65-4A29-9F97-DDF98F8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298C7-450B-41B8-A584-DE9B0AA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BE008-1ADF-4685-9A85-29A7E2F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CF8E7-743B-43B0-813D-54A0334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DAC56-FE35-43CA-9820-5435CB7F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8B654-D3F3-49BB-99F5-BE0CEF5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194BB-FE50-4614-85C3-D9C6892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92EA9-3ACF-4A86-AB49-C31BFCA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42D45-E012-43E4-8B89-D9A26EDB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6C12B-B9F2-48F4-AE19-682CDEB3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FC69F-D834-454D-B3DF-120F41A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6D3604-97E3-4C98-9586-65D071FE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7118C-EB32-4CE7-A616-AA9BB4C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F0E36-2914-4321-879C-AD0E2C80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FAEABD-F873-4222-B8AF-85A7EDDA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F4E93-DD82-4E18-9508-6E80A71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65320-6029-4FA1-8E3D-15B1EACC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A4C5D-81A9-41AA-ABD5-8939A27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20F0E-5049-4699-996E-F8FFB25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6CDC6-9778-43AF-A37C-225DCE1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C3AB6-B1FA-49CD-8348-381DD496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AB4C2-3AC0-446E-8BDA-CFEDF2D3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71CC3-71B8-447D-9296-32BE4C75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809C9-EBC2-4F5F-946F-AB1ECB51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E3CF3-9C46-403C-A8D1-AE50D2E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631B1-BC59-41D8-916E-61FCDCDD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33501-F7D8-41BF-99DB-BCE07BD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C0A00-5B2A-4904-9119-401D4DB5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5C56C-0E34-4BE0-AD88-B30694C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255A7-5B87-4023-B054-234D22C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AAE849-8E8E-4B51-89E3-AACC737C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C7A65F-306F-4831-969D-1221DDE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ED0AA1-D1CD-4BAB-BAC1-15E62BA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BE2B6-EB02-4DCC-A0C9-2B5CE16D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C58F1-156A-4BB5-8F39-56AF5322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0A249-C786-4CB4-9DE6-19F428C7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85B9F-BD6D-4BC6-A1AB-3F441D8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0DB58-C136-4A5A-8F23-8D66E2E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7B3A6-DE24-49BC-850D-5AA6F7C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C00DF-897D-4ED0-B757-C6C3EB86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B72A3-A2B6-4971-8EEA-A8A4D8B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B396D-DEE0-4847-8BA7-D918762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9E951-8CFE-4CFD-B5EF-873E300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77273-EBFF-4234-9DEC-FB2F4D45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130401-033E-454A-AE12-25919043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0D2C2-B41D-4150-9A56-55350F2B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06621B-55EC-4C5C-98F2-E81161FF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FD8E0-CF12-4199-B8C2-B5A04195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478390-C03B-4224-9333-116BF4B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DFB140-1454-46CA-A1EE-643A2C0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C5AFB4-C0CE-4019-9C27-C8CF4CD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14CCC-514D-4CF7-A336-3D804088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54A449-464F-4EFC-915D-6480E67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93BE8-3B74-45DE-A7CE-EAC6D41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01577-8857-4DBA-8518-DFFB044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E2D6BE-3C0E-4ACB-9046-C828BE0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C9B424-48FF-438E-ACFF-CB5C4D0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8D9EC-9299-4E53-AC12-51ABDDF5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EF991-16C1-4649-9152-70E45A4F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A9814F-6440-4EA5-AF97-FB869BEB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DE47B0-253B-4E58-A7B4-E68A560F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96996-30C6-4733-A601-35CBDA4C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3D985A-9648-412E-A906-1BE29FE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B9065-51B5-4502-AF84-4624A9D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3CF27B-9530-4834-BD69-D002275E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45D2E2-1915-4A09-A983-F55DA5D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B76DB-6FD9-48EB-BFD4-6AA497A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AA6F95-BED0-4B10-B1B6-443D00F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99791A-8D67-4204-817C-E986400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D9502-FE0E-481E-AD3F-757E8E50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DC16FF-4F8D-4BD0-ADDD-0FD5D49E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2E98B0-A21F-4545-97FF-D0B5D658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B44F85-F601-49DD-82DB-B029D5E6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20A281-B5D4-492F-9D6B-69A53DD2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DC5B78-837D-4E66-8E96-A8A29C6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60795B-04BD-49C4-A384-8CECD34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7AF6C3-32D2-44AA-A437-6115D281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D52794-9925-4286-9BF4-8D039C1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C95A64-D45C-459C-9236-ECFD14E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CB4D74-3760-480F-B34A-D6ABBB1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C0E8AC-92AF-4C7D-B7FF-291162E3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3E24CE-C07F-4FFB-AE60-0848D41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12CFC9-4D0D-4FB8-86D7-E6968572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83DD44-8653-4A15-9C7A-33960177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E86E12-4BF6-4E9D-9518-B5130F9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642C6-9C5F-414C-BD54-5F1F7A43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08D3D-253E-4DD2-AD54-22B18B39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62587-4B1D-4D76-B652-F3A9971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982D54-32CD-4AA8-AAF5-C21A8E1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90EC6D-0E05-4225-B2D1-8BAC0D2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BD852B-7013-462E-A8AD-5F5DA16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A8351A-1662-41FD-859F-7E0C1A3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C170D0-6189-4150-94CB-F804083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FC9249-C0B9-4078-A79E-C1A97BBD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AA7EA-8CAD-4253-90CC-FF726E6A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E92AEC-40D3-4855-A2E8-7D584719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01F272-F608-48F2-B2F3-FC9508A2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2BA318-C53E-41A3-A154-A7DE434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213CED-D08F-40D8-B128-9D862687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512169-8A22-46D6-90A2-CB6CA26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0B1F13-D06D-4C65-AA0C-894F091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30990D-835B-469D-BDFC-F724424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8649A7-E2F7-4269-858C-324A250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55FE72-7E92-46A1-B8EB-2582F51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1A58A1-4581-4F25-A6B3-5137F09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187752-DB6C-43FD-8005-A10B52F4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87F0F9-74C7-4949-A694-84441E05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../../../&#30446;&#24405;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2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2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3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4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5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6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2BCE-1CD3-402B-9AB4-36FE597F4B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4F7-47D2-42C9-A867-3F5729D8D0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B43-3E01-4B50-A88D-4A6F1E6D77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67724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cccc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666-6EA1-4445-A787-E7056FEFCD4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F231-82C2-4A35-8564-C22CB86A80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286-25FD-4E06-88EB-FC5D2E75052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BC9B-88F1-44DE-BA84-0B7FCAAF12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29D-4779-4862-9461-4BB49AFBCFE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358B-C24C-47AE-9B39-339CDAD6AF7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A20D-555E-41E3-919D-68CAE79D9F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55A-EE42-4A89-8576-C48D247D74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sldNum" idx="2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7CF-8032-4C0E-8945-6ACCDFCB24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3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sldNum" idx="3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5865-4F60-470E-AF4B-FCF9DF2F06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9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A62-5715-4155-A5F9-7145B1A50B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3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D186-32A3-4BAA-B5A2-1187419F55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sldNum" idx="3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E16E-7CC0-421F-8F26-2234EB93E0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3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sldNum" idx="3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300-C38A-4ECF-9759-2FC8837D9E9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dt" idx="3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2E7-72FE-48FE-8E8C-2434A11B79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sldNum" idx="4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A48-24E1-425E-87FA-EB4F2C31D4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4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sldNum" idx="4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3335-0044-485C-BADC-4A2413EC43A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4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FA0A-34A7-4F43-838E-5E797B00AE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sldNum" idx="4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B97-F272-4F6A-AC38-0B07017D821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4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sldNum" idx="4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624-31AE-45EF-A0D8-572E8E3F595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5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FFE-164E-4740-8066-64035DD7B2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76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9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80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A45B-002F-42BC-ACEB-09F16A93BB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3472-602A-4EFF-84ED-CD4F431948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1DF-0646-40DB-9D6F-284AA37AD5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202-ACB8-4034-AC23-FF4FB8680C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6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6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6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7CED-9597-4D94-B337-3F56DAB20B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6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6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6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9EB-CA1E-4A4E-AABE-7A08722421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 type="dt" idx="6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 type="ftr" idx="6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 type="sldNum" idx="6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0D1-C984-4CE6-8306-75909BDB53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7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ftr" idx="7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sldNum" idx="7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F2C-1052-424E-A821-415E4E9515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7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7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7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883D-99FD-4CF6-8F0D-168BFF03AF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7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7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7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E92D-E066-4500-8268-1E2BCFDA82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 type="dt" idx="7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 type="ftr" idx="8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 type="sldNum" idx="8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938A-0D65-4D7F-B04F-4BC3973A44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 type="dt" idx="8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 type="ftr" idx="8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 type="sldNum" idx="8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3DD-E2A9-4336-972D-5D8947A2AC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5" name="图片 368689" descr=""/>
          <p:cNvPicPr/>
          <p:nvPr/>
        </p:nvPicPr>
        <p:blipFill>
          <a:blip r:embed="rId1"/>
          <a:srcRect l="44536" t="-17125" r="21955" b="0"/>
          <a:stretch/>
        </p:blipFill>
        <p:spPr>
          <a:xfrm>
            <a:off x="3986280" y="2421000"/>
            <a:ext cx="219528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0" name="图片 1256458" descr=""/>
          <p:cNvPicPr/>
          <p:nvPr/>
        </p:nvPicPr>
        <p:blipFill>
          <a:blip r:embed="rId1"/>
          <a:stretch/>
        </p:blipFill>
        <p:spPr>
          <a:xfrm>
            <a:off x="195120" y="787320"/>
            <a:ext cx="8778960" cy="1571760"/>
          </a:xfrm>
          <a:prstGeom prst="rect">
            <a:avLst/>
          </a:prstGeom>
          <a:ln w="0">
            <a:noFill/>
          </a:ln>
        </p:spPr>
      </p:pic>
      <p:pic>
        <p:nvPicPr>
          <p:cNvPr id="2361" name="图片 1256459" descr=""/>
          <p:cNvPicPr/>
          <p:nvPr/>
        </p:nvPicPr>
        <p:blipFill>
          <a:blip r:embed="rId2"/>
          <a:stretch/>
        </p:blipFill>
        <p:spPr>
          <a:xfrm>
            <a:off x="247680" y="2543040"/>
            <a:ext cx="8707320" cy="19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2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3352680" y="676440"/>
            <a:ext cx="2619360" cy="612720"/>
          </a:xfrm>
          <a:prstGeom prst="rect">
            <a:avLst/>
          </a:prstGeom>
          <a:ln w="0">
            <a:noFill/>
          </a:ln>
        </p:spPr>
      </p:pic>
      <p:pic>
        <p:nvPicPr>
          <p:cNvPr id="2363" name="图片 1238035" descr=""/>
          <p:cNvPicPr/>
          <p:nvPr/>
        </p:nvPicPr>
        <p:blipFill>
          <a:blip r:embed="rId2"/>
          <a:stretch/>
        </p:blipFill>
        <p:spPr>
          <a:xfrm>
            <a:off x="252360" y="3913200"/>
            <a:ext cx="8202600" cy="1184400"/>
          </a:xfrm>
          <a:prstGeom prst="rect">
            <a:avLst/>
          </a:prstGeom>
          <a:ln w="0">
            <a:noFill/>
          </a:ln>
        </p:spPr>
      </p:pic>
      <p:grpSp>
        <p:nvGrpSpPr>
          <p:cNvPr id="2364" name="组合 1238038"/>
          <p:cNvGrpSpPr/>
          <p:nvPr/>
        </p:nvGrpSpPr>
        <p:grpSpPr>
          <a:xfrm>
            <a:off x="334800" y="1279440"/>
            <a:ext cx="8809200" cy="2511360"/>
            <a:chOff x="334800" y="1279440"/>
            <a:chExt cx="8809200" cy="2511360"/>
          </a:xfrm>
        </p:grpSpPr>
        <p:pic>
          <p:nvPicPr>
            <p:cNvPr id="2365" name="图片 1238034" descr=""/>
            <p:cNvPicPr/>
            <p:nvPr/>
          </p:nvPicPr>
          <p:blipFill>
            <a:blip r:embed="rId3"/>
            <a:stretch/>
          </p:blipFill>
          <p:spPr>
            <a:xfrm>
              <a:off x="347760" y="1279440"/>
              <a:ext cx="87962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6" name="矩形 1238036"/>
            <p:cNvSpPr/>
            <p:nvPr/>
          </p:nvSpPr>
          <p:spPr>
            <a:xfrm>
              <a:off x="334800" y="3281400"/>
              <a:ext cx="4604040" cy="5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7" name="图片 1248261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30480"/>
          </a:xfrm>
          <a:prstGeom prst="rect">
            <a:avLst/>
          </a:prstGeom>
          <a:ln w="0">
            <a:noFill/>
          </a:ln>
        </p:spPr>
      </p:pic>
      <p:sp>
        <p:nvSpPr>
          <p:cNvPr id="2368" name="矩形 1248262"/>
          <p:cNvSpPr/>
          <p:nvPr/>
        </p:nvSpPr>
        <p:spPr>
          <a:xfrm>
            <a:off x="3240000" y="2389320"/>
            <a:ext cx="557064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2370" name="图片 1239061" descr=""/>
          <p:cNvPicPr/>
          <p:nvPr/>
        </p:nvPicPr>
        <p:blipFill>
          <a:blip r:embed="rId2"/>
          <a:stretch/>
        </p:blipFill>
        <p:spPr>
          <a:xfrm>
            <a:off x="915840" y="1558800"/>
            <a:ext cx="6935760" cy="3753000"/>
          </a:xfrm>
          <a:prstGeom prst="rect">
            <a:avLst/>
          </a:prstGeom>
          <a:ln w="0">
            <a:noFill/>
          </a:ln>
        </p:spPr>
      </p:pic>
      <p:sp>
        <p:nvSpPr>
          <p:cNvPr id="2371" name="矩形 1239062"/>
          <p:cNvSpPr/>
          <p:nvPr/>
        </p:nvSpPr>
        <p:spPr>
          <a:xfrm>
            <a:off x="4395960" y="4216320"/>
            <a:ext cx="3889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图片 1244164" descr=""/>
          <p:cNvPicPr/>
          <p:nvPr/>
        </p:nvPicPr>
        <p:blipFill>
          <a:blip r:embed="rId1"/>
          <a:stretch/>
        </p:blipFill>
        <p:spPr>
          <a:xfrm>
            <a:off x="1482840" y="1501920"/>
            <a:ext cx="5715000" cy="2390760"/>
          </a:xfrm>
          <a:prstGeom prst="rect">
            <a:avLst/>
          </a:prstGeom>
          <a:ln w="0">
            <a:noFill/>
          </a:ln>
        </p:spPr>
      </p:pic>
      <p:sp>
        <p:nvSpPr>
          <p:cNvPr id="2373" name="矩形 1244165"/>
          <p:cNvSpPr/>
          <p:nvPr/>
        </p:nvSpPr>
        <p:spPr>
          <a:xfrm>
            <a:off x="3849840" y="2882880"/>
            <a:ext cx="37414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图片 1247238" descr=""/>
          <p:cNvPicPr/>
          <p:nvPr/>
        </p:nvPicPr>
        <p:blipFill>
          <a:blip r:embed="rId1"/>
          <a:stretch/>
        </p:blipFill>
        <p:spPr>
          <a:xfrm>
            <a:off x="1068480" y="1122480"/>
            <a:ext cx="7008840" cy="3467160"/>
          </a:xfrm>
          <a:prstGeom prst="rect">
            <a:avLst/>
          </a:prstGeom>
          <a:ln w="0">
            <a:noFill/>
          </a:ln>
        </p:spPr>
      </p:pic>
      <p:sp>
        <p:nvSpPr>
          <p:cNvPr id="2375" name="矩形 1247239"/>
          <p:cNvSpPr/>
          <p:nvPr/>
        </p:nvSpPr>
        <p:spPr>
          <a:xfrm>
            <a:off x="4321080" y="2178000"/>
            <a:ext cx="10414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6" name="矩形 1247240"/>
          <p:cNvSpPr/>
          <p:nvPr/>
        </p:nvSpPr>
        <p:spPr>
          <a:xfrm>
            <a:off x="3448080" y="3165480"/>
            <a:ext cx="7999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7" name="矩形 1247241"/>
          <p:cNvSpPr/>
          <p:nvPr/>
        </p:nvSpPr>
        <p:spPr>
          <a:xfrm>
            <a:off x="3648240" y="4143240"/>
            <a:ext cx="49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8" name="图片 1246215" descr=""/>
          <p:cNvPicPr/>
          <p:nvPr/>
        </p:nvPicPr>
        <p:blipFill>
          <a:blip r:embed="rId1"/>
          <a:stretch/>
        </p:blipFill>
        <p:spPr>
          <a:xfrm>
            <a:off x="1262160" y="1627200"/>
            <a:ext cx="6621480" cy="2457360"/>
          </a:xfrm>
          <a:prstGeom prst="rect">
            <a:avLst/>
          </a:prstGeom>
          <a:ln w="0">
            <a:noFill/>
          </a:ln>
        </p:spPr>
      </p:pic>
      <p:sp>
        <p:nvSpPr>
          <p:cNvPr id="2379" name="矩形 1246217"/>
          <p:cNvSpPr/>
          <p:nvPr/>
        </p:nvSpPr>
        <p:spPr>
          <a:xfrm>
            <a:off x="5361120" y="2178000"/>
            <a:ext cx="390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0" name="矩形 1246218"/>
          <p:cNvSpPr/>
          <p:nvPr/>
        </p:nvSpPr>
        <p:spPr>
          <a:xfrm>
            <a:off x="6043680" y="3649680"/>
            <a:ext cx="6634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图片 1245191" descr=""/>
          <p:cNvPicPr/>
          <p:nvPr/>
        </p:nvPicPr>
        <p:blipFill>
          <a:blip r:embed="rId1"/>
          <a:stretch/>
        </p:blipFill>
        <p:spPr>
          <a:xfrm>
            <a:off x="965160" y="900000"/>
            <a:ext cx="6954840" cy="4581720"/>
          </a:xfrm>
          <a:prstGeom prst="rect">
            <a:avLst/>
          </a:prstGeom>
          <a:ln w="0">
            <a:noFill/>
          </a:ln>
        </p:spPr>
      </p:pic>
      <p:sp>
        <p:nvSpPr>
          <p:cNvPr id="2382" name="矩形 1245192"/>
          <p:cNvSpPr/>
          <p:nvPr/>
        </p:nvSpPr>
        <p:spPr>
          <a:xfrm>
            <a:off x="7191360" y="2009880"/>
            <a:ext cx="4953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3" name="矩形 1245193"/>
          <p:cNvSpPr/>
          <p:nvPr/>
        </p:nvSpPr>
        <p:spPr>
          <a:xfrm>
            <a:off x="2336760" y="2505240"/>
            <a:ext cx="55832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4" name="矩形 1245194"/>
          <p:cNvSpPr/>
          <p:nvPr/>
        </p:nvSpPr>
        <p:spPr>
          <a:xfrm>
            <a:off x="1401840" y="2987640"/>
            <a:ext cx="55832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5" name="矩形 1245195"/>
          <p:cNvSpPr/>
          <p:nvPr/>
        </p:nvSpPr>
        <p:spPr>
          <a:xfrm>
            <a:off x="7202520" y="3984480"/>
            <a:ext cx="4953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6" name="矩形 1245196"/>
          <p:cNvSpPr/>
          <p:nvPr/>
        </p:nvSpPr>
        <p:spPr>
          <a:xfrm>
            <a:off x="2336760" y="4470480"/>
            <a:ext cx="55832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7" name="矩形 1245197"/>
          <p:cNvSpPr/>
          <p:nvPr/>
        </p:nvSpPr>
        <p:spPr>
          <a:xfrm>
            <a:off x="1401840" y="4984920"/>
            <a:ext cx="55832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8" name="图片 1243140" descr=""/>
          <p:cNvPicPr/>
          <p:nvPr/>
        </p:nvPicPr>
        <p:blipFill>
          <a:blip r:embed="rId1"/>
          <a:stretch/>
        </p:blipFill>
        <p:spPr>
          <a:xfrm>
            <a:off x="1116000" y="708120"/>
            <a:ext cx="6885000" cy="4295520"/>
          </a:xfrm>
          <a:prstGeom prst="rect">
            <a:avLst/>
          </a:prstGeom>
          <a:ln w="0">
            <a:noFill/>
          </a:ln>
        </p:spPr>
      </p:pic>
      <p:sp>
        <p:nvSpPr>
          <p:cNvPr id="2389" name="矩形 1243141"/>
          <p:cNvSpPr/>
          <p:nvPr/>
        </p:nvSpPr>
        <p:spPr>
          <a:xfrm rot="1227000">
            <a:off x="3355560" y="3228480"/>
            <a:ext cx="797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0" name="矩形 1243142"/>
          <p:cNvSpPr/>
          <p:nvPr/>
        </p:nvSpPr>
        <p:spPr>
          <a:xfrm>
            <a:off x="4659480" y="3913200"/>
            <a:ext cx="8920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1" name="矩形 1243143"/>
          <p:cNvSpPr/>
          <p:nvPr/>
        </p:nvSpPr>
        <p:spPr>
          <a:xfrm>
            <a:off x="3271680" y="4638600"/>
            <a:ext cx="640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2" name="矩形 1243144"/>
          <p:cNvSpPr/>
          <p:nvPr/>
        </p:nvSpPr>
        <p:spPr>
          <a:xfrm>
            <a:off x="1863720" y="3713040"/>
            <a:ext cx="67140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3" name="矩形 1243145"/>
          <p:cNvSpPr/>
          <p:nvPr/>
        </p:nvSpPr>
        <p:spPr>
          <a:xfrm>
            <a:off x="5972040" y="3860640"/>
            <a:ext cx="18795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4" name="图片 1264641" descr=""/>
          <p:cNvPicPr/>
          <p:nvPr/>
        </p:nvPicPr>
        <p:blipFill>
          <a:blip r:embed="rId1"/>
          <a:stretch/>
        </p:blipFill>
        <p:spPr>
          <a:xfrm>
            <a:off x="1111320" y="1146240"/>
            <a:ext cx="6923160" cy="3419280"/>
          </a:xfrm>
          <a:prstGeom prst="rect">
            <a:avLst/>
          </a:prstGeom>
          <a:ln w="0">
            <a:noFill/>
          </a:ln>
        </p:spPr>
      </p:pic>
      <p:sp>
        <p:nvSpPr>
          <p:cNvPr id="2395" name="矩形 1264642"/>
          <p:cNvSpPr/>
          <p:nvPr/>
        </p:nvSpPr>
        <p:spPr>
          <a:xfrm>
            <a:off x="1860480" y="2987640"/>
            <a:ext cx="473076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6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2347" name="图片 377065" descr=""/>
          <p:cNvPicPr/>
          <p:nvPr/>
        </p:nvPicPr>
        <p:blipFill>
          <a:blip r:embed="rId2"/>
          <a:stretch/>
        </p:blipFill>
        <p:spPr>
          <a:xfrm>
            <a:off x="324000" y="1712880"/>
            <a:ext cx="822312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6" name="图片 1263617" descr=""/>
          <p:cNvPicPr/>
          <p:nvPr/>
        </p:nvPicPr>
        <p:blipFill>
          <a:blip r:embed="rId1"/>
          <a:stretch/>
        </p:blipFill>
        <p:spPr>
          <a:xfrm>
            <a:off x="1104840" y="1084320"/>
            <a:ext cx="6935760" cy="3543120"/>
          </a:xfrm>
          <a:prstGeom prst="rect">
            <a:avLst/>
          </a:prstGeom>
          <a:ln w="0">
            <a:noFill/>
          </a:ln>
        </p:spPr>
      </p:pic>
      <p:sp>
        <p:nvSpPr>
          <p:cNvPr id="2397" name="矩形 1263618"/>
          <p:cNvSpPr/>
          <p:nvPr/>
        </p:nvSpPr>
        <p:spPr>
          <a:xfrm>
            <a:off x="3921120" y="2871720"/>
            <a:ext cx="406872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8" name="图片 1262593" descr=""/>
          <p:cNvPicPr/>
          <p:nvPr/>
        </p:nvPicPr>
        <p:blipFill>
          <a:blip r:embed="rId1"/>
          <a:stretch/>
        </p:blipFill>
        <p:spPr>
          <a:xfrm>
            <a:off x="1189080" y="763560"/>
            <a:ext cx="6359400" cy="4765680"/>
          </a:xfrm>
          <a:prstGeom prst="rect">
            <a:avLst/>
          </a:prstGeom>
          <a:ln w="0">
            <a:noFill/>
          </a:ln>
        </p:spPr>
      </p:pic>
      <p:sp>
        <p:nvSpPr>
          <p:cNvPr id="2399" name="矩形 1262594"/>
          <p:cNvSpPr/>
          <p:nvPr/>
        </p:nvSpPr>
        <p:spPr>
          <a:xfrm>
            <a:off x="1630440" y="3218040"/>
            <a:ext cx="55292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0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402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8" name="图片 1240069" descr=""/>
          <p:cNvPicPr/>
          <p:nvPr/>
        </p:nvPicPr>
        <p:blipFill>
          <a:blip r:embed="rId1"/>
          <a:stretch/>
        </p:blipFill>
        <p:spPr>
          <a:xfrm>
            <a:off x="376200" y="1784520"/>
            <a:ext cx="83916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图片 1255426" descr=""/>
          <p:cNvPicPr/>
          <p:nvPr/>
        </p:nvPicPr>
        <p:blipFill>
          <a:blip r:embed="rId1"/>
          <a:stretch/>
        </p:blipFill>
        <p:spPr>
          <a:xfrm>
            <a:off x="328680" y="1419120"/>
            <a:ext cx="84643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0" name="图片 1259521" descr=""/>
          <p:cNvPicPr/>
          <p:nvPr/>
        </p:nvPicPr>
        <p:blipFill>
          <a:blip r:embed="rId1"/>
          <a:stretch/>
        </p:blipFill>
        <p:spPr>
          <a:xfrm>
            <a:off x="333360" y="1325520"/>
            <a:ext cx="84772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1" name="图片 1260545" descr=""/>
          <p:cNvPicPr/>
          <p:nvPr/>
        </p:nvPicPr>
        <p:blipFill>
          <a:blip r:embed="rId1"/>
          <a:stretch/>
        </p:blipFill>
        <p:spPr>
          <a:xfrm>
            <a:off x="471600" y="1179360"/>
            <a:ext cx="3848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2" name="图片 1254402" descr=""/>
          <p:cNvPicPr/>
          <p:nvPr/>
        </p:nvPicPr>
        <p:blipFill>
          <a:blip r:embed="rId1"/>
          <a:stretch/>
        </p:blipFill>
        <p:spPr>
          <a:xfrm>
            <a:off x="282600" y="1182600"/>
            <a:ext cx="8601120" cy="2359080"/>
          </a:xfrm>
          <a:prstGeom prst="rect">
            <a:avLst/>
          </a:prstGeom>
          <a:ln w="0">
            <a:noFill/>
          </a:ln>
        </p:spPr>
      </p:pic>
      <p:sp>
        <p:nvSpPr>
          <p:cNvPr id="2353" name="矩形 1254403"/>
          <p:cNvSpPr/>
          <p:nvPr/>
        </p:nvSpPr>
        <p:spPr>
          <a:xfrm>
            <a:off x="2093760" y="2733840"/>
            <a:ext cx="24289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4" name="矩形 1254404"/>
          <p:cNvSpPr/>
          <p:nvPr/>
        </p:nvSpPr>
        <p:spPr>
          <a:xfrm>
            <a:off x="6518160" y="2754360"/>
            <a:ext cx="24289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5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2356" name="图片 1230868" descr=""/>
          <p:cNvPicPr/>
          <p:nvPr/>
        </p:nvPicPr>
        <p:blipFill>
          <a:blip r:embed="rId2"/>
          <a:stretch/>
        </p:blipFill>
        <p:spPr>
          <a:xfrm>
            <a:off x="530280" y="1601640"/>
            <a:ext cx="5495760" cy="2276640"/>
          </a:xfrm>
          <a:prstGeom prst="rect">
            <a:avLst/>
          </a:prstGeom>
          <a:ln w="0">
            <a:noFill/>
          </a:ln>
        </p:spPr>
      </p:pic>
      <p:pic>
        <p:nvPicPr>
          <p:cNvPr id="2357" name="图片 1230869" descr=""/>
          <p:cNvPicPr/>
          <p:nvPr/>
        </p:nvPicPr>
        <p:blipFill>
          <a:blip r:embed="rId3"/>
          <a:stretch/>
        </p:blipFill>
        <p:spPr>
          <a:xfrm>
            <a:off x="560520" y="3814920"/>
            <a:ext cx="350496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图片 1253378" descr=""/>
          <p:cNvPicPr/>
          <p:nvPr/>
        </p:nvPicPr>
        <p:blipFill>
          <a:blip r:embed="rId1"/>
          <a:stretch/>
        </p:blipFill>
        <p:spPr>
          <a:xfrm>
            <a:off x="816120" y="1244520"/>
            <a:ext cx="5410080" cy="1457280"/>
          </a:xfrm>
          <a:prstGeom prst="rect">
            <a:avLst/>
          </a:prstGeom>
          <a:ln w="0">
            <a:noFill/>
          </a:ln>
        </p:spPr>
      </p:pic>
      <p:pic>
        <p:nvPicPr>
          <p:cNvPr id="2359" name="图片 1253379" descr=""/>
          <p:cNvPicPr/>
          <p:nvPr/>
        </p:nvPicPr>
        <p:blipFill>
          <a:blip r:embed="rId2"/>
          <a:stretch/>
        </p:blipFill>
        <p:spPr>
          <a:xfrm>
            <a:off x="773280" y="2827440"/>
            <a:ext cx="305748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30:56Z</dcterms:created>
  <dc:creator/>
  <dc:description/>
  <dc:language>en-US</dc:language>
  <cp:lastModifiedBy>万润仪器贸易公司</cp:lastModifiedBy>
  <dcterms:modified xsi:type="dcterms:W3CDTF">2020-08-24T00:31:04Z</dcterms:modified>
  <cp:revision>13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